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6.jpeg" ContentType="image/jpe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7.jpeg" ContentType="image/jpeg"/>
  <Override PartName="/ppt/media/image5.wmf" ContentType="image/x-wmf"/>
  <Override PartName="/ppt/media/image6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106B-ED1B-4D0D-9771-A5336FD3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60DD-9B11-4C4C-8295-A961AD55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E976-D1A9-4636-9FE8-E85E7153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F44D-B882-4BE6-B9F5-B2BDB875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63AF-FE0A-4B71-AA3B-26398684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A59A-BC74-44FA-AE69-56B5C81A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CA44-6766-44AE-811D-CEC6A557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943C-82B5-435B-82DA-692FAEA1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63D1-73CD-4FCA-8959-4E2E8979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EFCC-E1AD-496F-94C6-E064A2F5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06BE-6349-4D90-BE30-F6A30197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D68C-046F-4808-B26E-9943471C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CC21-0C11-4195-B677-9F1B9597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553A-8CE9-46FA-BE66-FD3FBB83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1500-E8B5-47AB-9156-FA696589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1C35-3FEA-4F72-BD22-A8C1FDD0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CFEF-3B63-49DA-AEEE-E0056FEB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D2750-0320-464E-845F-755DD858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9E08A-1098-4A74-B4B2-A10DA338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4CD7E-A8D0-4492-B631-B4E4277C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78521-D329-4FAF-B6ED-7983E770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36605-B9DF-401D-8BDA-91941809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2A9B-C61E-4DF7-980B-54671D90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A5D60-46B2-47EA-A356-9653F693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A7898-5492-43AA-B474-2B81841F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6B6A2-753E-46F6-AF24-3555A59C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C9D73-B404-4A43-8A6F-677BE1A9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30A4D-7BD6-4EDA-9930-982098DB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5FB67-F5ED-459F-8CA7-99B65D57D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C576D-D49C-4BFF-9CC3-784C57A6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A2185-3536-4DBA-A1A2-F4368382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AFC6D-B668-4A2E-98A6-DFCDB039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A8313-DC9F-4AA2-9868-505FD49D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D960-DE62-474E-BD56-82EF2A15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BEF8A-7151-444D-AE3E-B04CCAAD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2BB0F-3E5C-49EB-BAF0-8ED70B28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5A949-5B60-4070-A241-65B392F6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7BD9B-8B33-48BC-9F1E-8097C856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6EA40-18D1-4340-97F5-66C807D8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58D55-1461-4A89-8855-CDFAAEB6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7651D-17AB-47E1-BDE2-9F25D3F9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97B75-BBC8-4B1E-9734-18566ECC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C481F-C2C6-4E56-8F66-1A103277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49DC-0726-449E-A212-3249FB37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7783-75DC-43B0-A9D2-6A185CF7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99A4-8348-4E66-9C2E-6A421E19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56AB-2BAA-4D45-B0F5-A1A218E8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B17D-FB3B-41DB-8A72-61570805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02BD-B66D-44A5-B4B5-07EA0C9AE16A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EF56-500D-40AB-ACDE-B876BA844603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948360" y="5083200"/>
            <a:ext cx="2195640" cy="1774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60640" cy="2340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4966-4025-406A-BE62-EDCF7B6F6B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28C2-5956-4ACD-8786-AA995F02B7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sompo-japan.co.jp/travel/images/trav03.gif&amp;imgrefurl=http://www.sompo-japan.co.jp/travel/trav005.html&amp;h=171&amp;w=200&amp;sz=6&amp;tbnid=o5zIk1UZvlIJ:&amp;tbnh=84&amp;tbnw=99&amp;hl=zh-CN&amp;start=44&amp;prev=/images%3Fq%3D%25E7%2596%25BE%25E7%2597%2585%26start%3D40%26svnum%3D10%26hl%3Dzh-CN%26lr%3D%26newwindow%3D1%26sa%3D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131720550&amp;tn=baiduimagedetail&amp;word=&#28508;&#27700;&amp;in=3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bigchina.net/ebcps/2/md/1376492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oufa.cn/special/14/2/2515035887.htm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ho.int/en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病理生理学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2380680" y="2708280"/>
            <a:ext cx="43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athophysiolog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亚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sub-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844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身心处于健康与疾病之间的健康低质量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411280" y="2781360"/>
          <a:ext cx="4033800" cy="333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2781360"/>
                    <a:ext cx="403380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disease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在一定病因作用下，自稳调节紊乱导致的异常生命活动过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症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ymptom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指疾病所引起的患者主观感觉的异常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ig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各种检查方法在患病机体发现的客观存在的异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病理过程（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pathological process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多种疾病中出现的共同的成套的功能、代谢和结构变化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1280" y="515880"/>
            <a:ext cx="71136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疾病与病理过程的区别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2226960"/>
            <a:ext cx="828036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疾病可包含几个病理过程，故病理过程是疾病的组成成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病理过程可以由不同原因引起，而疾病由特定原因引起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560" y="990720"/>
            <a:ext cx="7921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病因学概论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27082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4375080"/>
            <a:ext cx="1952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4437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健康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64000" y="44370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700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患病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788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520" y="566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203640" y="4508640"/>
            <a:ext cx="2442960" cy="457200"/>
          </a:xfrm>
          <a:custGeom>
            <a:avLst/>
            <a:gdLst>
              <a:gd name="textAreaLeft" fmla="*/ 0 w 2442960"/>
              <a:gd name="textAreaRight" fmla="*/ 2443320 w 244296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501336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95640" y="386064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67280" y="522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5516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386064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4200" y="321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诱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2960" y="92088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3840" y="1989000"/>
            <a:ext cx="35460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疾病发生的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病因 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isease cause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，是指引起某一疾病必不可少的、决定疾病特异性的致病因素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物理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暴力、极端的温度、极端的大气压、噪声、电流、紫外线、电离辐射等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2492280"/>
            <a:ext cx="3384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化学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强酸、强碱、毒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27320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一章   绪  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25520" y="2637000"/>
            <a:ext cx="668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introduction to pathophysiolog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性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病原微生物和寄生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特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一定的入侵门户和定位；病原体和机体相互作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2806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鸡瘟病毒对人无致病作用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050920" y="1996920"/>
            <a:ext cx="41054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11000" y="1537920"/>
            <a:ext cx="7173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营养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必需物质的缺乏或过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4098960"/>
            <a:ext cx="26575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640" y="2133360"/>
            <a:ext cx="4510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、心理和社会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古罗马医生盖仑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Gale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在其著作中就叙述了关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精神卫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问题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743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遗传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染色体畸变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2565360"/>
            <a:ext cx="37512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8109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先天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损害正常胎儿发育的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077240" y="3645000"/>
            <a:ext cx="13269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．免疫性因素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超敏反应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hypersensitivity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自身免疫性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autoimmune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免疫缺陷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immunodeficiency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发生的条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条件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(conditio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是指在疾病的病因作用于机体的前提下，能够促进或阻碍疾病发生发展的各种因素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1960200" y="4384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00360" y="3860640"/>
            <a:ext cx="576360" cy="1584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34200" y="3586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86400" y="510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条件对疾病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抑制疾病发生发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促进疾病发生发展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826920" y="3500280"/>
            <a:ext cx="720108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够加强某一疾病原因的作用，从而促进疾病发生的因素，称之为诱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precipitating factor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四节 发病学概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3736800"/>
            <a:ext cx="741672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病学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athogenesi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是研究疾病发生、发展及转归的普遍规律和机制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4360" y="1484280"/>
            <a:ext cx="820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　病理生理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内容及其学科性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989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一、疾病发生、发展的一般规律及机制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机体的屏障防御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外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内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白细胞、组织细胞、淋巴结、肝、肺、肾、脾、血脑屏障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blood-brain barrier)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和胎盘屏障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placenta barrier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致病因素的蔓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组织性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神经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体液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自稳调节的紊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自我调节机制破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原始病因使机体某一部分发生损害后，这种损害又可以作为发病学原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pathogenetic cause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而引起另一些变化，后者又可作为新的发病学原因而引起新的变化。如此，原因和结果交替不已，使疾病过程不断发展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200400" y="609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爆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11430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1523880"/>
            <a:ext cx="23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织受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33920" y="205740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1"/>
          </p:cNvPr>
          <p:cNvSpPr/>
          <p:nvPr/>
        </p:nvSpPr>
        <p:spPr>
          <a:xfrm>
            <a:off x="3200400" y="2514600"/>
            <a:ext cx="122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出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0481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3505320"/>
            <a:ext cx="38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循环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41148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464832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血压下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518148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6688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回心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58320" y="68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1676520"/>
            <a:ext cx="17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1       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4382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2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342900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3      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62720" y="401760"/>
            <a:ext cx="25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原始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initial caus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144792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23623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导环节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leading lin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72720" y="2666880"/>
            <a:ext cx="27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发病学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pathogenetic cause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果转化的发展方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恶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vicious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良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benign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57240" indent="-490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的损伤和抗损伤反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lnSpc>
                <a:spcPct val="7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损伤和抗损伤反应间并无严格界限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矛盾的两个方面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3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动态变化过程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4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代偿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compensation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和适应反应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adaptive respons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是机体抗损伤反应的重要方面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821520" y="620640"/>
            <a:ext cx="7383960" cy="6082560"/>
            <a:chOff x="821520" y="620640"/>
            <a:chExt cx="7383960" cy="6082560"/>
          </a:xfrm>
        </p:grpSpPr>
        <p:sp>
          <p:nvSpPr>
            <p:cNvPr id="294" name=""/>
            <p:cNvSpPr/>
            <p:nvPr/>
          </p:nvSpPr>
          <p:spPr>
            <a:xfrm rot="6074400">
              <a:off x="7179840" y="3586320"/>
              <a:ext cx="1000080" cy="872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8000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821520" y="620640"/>
              <a:ext cx="7102080" cy="6082560"/>
              <a:chOff x="821520" y="620640"/>
              <a:chExt cx="7102080" cy="6082560"/>
            </a:xfrm>
          </p:grpSpPr>
          <p:sp>
            <p:nvSpPr>
              <p:cNvPr id="296" name=""/>
              <p:cNvSpPr/>
              <p:nvPr/>
            </p:nvSpPr>
            <p:spPr>
              <a:xfrm>
                <a:off x="7437960" y="383688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异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821520" y="620640"/>
                <a:ext cx="6822720" cy="6082560"/>
                <a:chOff x="821520" y="620640"/>
                <a:chExt cx="6822720" cy="60825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778760" y="1246320"/>
                  <a:ext cx="5474520" cy="46479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cc66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924360" y="620640"/>
                  <a:ext cx="1264320" cy="590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2336400">
                  <a:off x="6224760" y="1333440"/>
                  <a:ext cx="132732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13183200">
                  <a:off x="2196720" y="5554440"/>
                  <a:ext cx="1485720" cy="761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14810400">
                  <a:off x="977040" y="4107600"/>
                  <a:ext cx="997200" cy="9669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8521200">
                  <a:off x="5728680" y="5389200"/>
                  <a:ext cx="126108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9479000">
                  <a:off x="1929240" y="1147680"/>
                  <a:ext cx="103140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16834800">
                  <a:off x="888840" y="2464560"/>
                  <a:ext cx="990720" cy="960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859200" y="1627200"/>
                  <a:ext cx="1400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单核吞噬细胞系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847120" y="2541600"/>
                  <a:ext cx="94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物理性屏障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016320" y="390996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状态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350600" y="512928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免疫反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35720" y="459900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炎症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80600" y="3608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凝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48560" y="2465280"/>
                  <a:ext cx="1095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化学解毒作用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342680" y="69696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射线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616800" y="14749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微生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060600" y="55897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570400" y="58183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热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141560" y="43704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畸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983160" y="27702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癌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01040" y="1322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创伤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21120" y="2625840"/>
                  <a:ext cx="1269360" cy="1973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疾病发生的基本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神经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体液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细胞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分子机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研究对象及任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25560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（患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病机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328464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1240" y="306864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病人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ati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07040" y="414972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疾病模型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nimal mod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07664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机能代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198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究对象为疾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55960" y="5373720"/>
            <a:ext cx="42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务为揭示机制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755640" y="692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二、疾病转归的一般规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342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疾病的转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24703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59280" y="4437000"/>
            <a:ext cx="163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死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59280" y="1916280"/>
            <a:ext cx="31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285264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4720" y="2276640"/>
            <a:ext cx="299880" cy="1066680"/>
          </a:xfrm>
          <a:custGeom>
            <a:avLst/>
            <a:gdLst>
              <a:gd name="textAreaLeft" fmla="*/ 191520 w 299880"/>
              <a:gd name="textAreaRight" fmla="*/ 300240 w 299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恢复健康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001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康复 （痊愈 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不完全康复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55640" y="836640"/>
            <a:ext cx="568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二）死亡（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五节   死 亡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死亡的概念和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机体作为一个整体的功能的永久停止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90000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19280" y="3500280"/>
            <a:ext cx="358920" cy="1295640"/>
          </a:xfrm>
          <a:custGeom>
            <a:avLst/>
            <a:gdLst>
              <a:gd name="textAreaLeft" fmla="*/ 229320 w 358920"/>
              <a:gd name="textAreaRight" fmla="*/ 359280 w 358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200" y="328464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生理性死亡（老死亡，衰老死亡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79640" y="4724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病理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365720"/>
            <a:ext cx="360360" cy="12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08360" y="4221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意外所引起急性死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08360" y="4797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重要器官不可恢复性损伤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08360" y="537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慢性消耗性疾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传统的死亡概念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濒死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临床死亡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生物学死亡期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脑死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00100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脑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包括脑干在内的全脑功能丧失的不可逆转的状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多数学者以脑干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stem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确定为脑死亡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死亡的判断标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5040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持续深昏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呼吸停止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无自主运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脑干反射消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大脑电沉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electrocerebral silenc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其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219640" y="2781360"/>
            <a:ext cx="3924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及时判断脑死亡的意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96992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准确地判断脑死亡利于判断复苏的预后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体材料的利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确定终止复苏抢救的界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病理生理学的教学内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1820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疾病概论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Introduction to disease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病理过程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pathological process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系统器官病理生理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systemic pathophysiology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病理生理学的学科性质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2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综合性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桥梁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实践性较强的学科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239840" y="343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病理生理学的研究方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动物实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animal experimen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子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临床研究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linical observation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不损害病人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健康和疾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2421000"/>
            <a:ext cx="867564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健康不仅没有疾病和病痛，而且在躯体上、心理上和社会上处于完好状态。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身心健康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WHO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5373720"/>
            <a:ext cx="4011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7T15:08:06Z</dcterms:created>
  <dc:creator>aa</dc:creator>
  <dc:description/>
  <dc:language>en-US</dc:language>
  <cp:lastModifiedBy>hzg</cp:lastModifiedBy>
  <dcterms:modified xsi:type="dcterms:W3CDTF">2014-04-22T02:29:22Z</dcterms:modified>
  <cp:revision>210</cp:revision>
  <dc:subject/>
  <dc:title>病理生理学                  (pathophysiology) </dc:title>
</cp:coreProperties>
</file>